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9556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320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4792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9556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320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47268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ns.artie.com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7320" y="1653840"/>
            <a:ext cx="73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ton’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The  acceleration of an object depends on the mass of the object and the amount of force appl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leration &amp;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d on  an object, the more it will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accele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hange its mo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leration &amp;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or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n object has, 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takes to accelerate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ction –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enever one object exerts a force on a second object, the second object exerts an equal and opposite force on the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l"/>
          <p:cNvPicPr/>
          <p:nvPr/>
        </p:nvPicPr>
        <p:blipFill>
          <a:blip r:embed="rId1"/>
          <a:stretch/>
        </p:blipFill>
        <p:spPr>
          <a:xfrm>
            <a:off x="1752480" y="533520"/>
            <a:ext cx="5867640" cy="1670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447920" y="2666880"/>
            <a:ext cx="70102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ck i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What is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it to stop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opped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 i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What is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it to m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ru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447920" y="2590920"/>
            <a:ext cx="7238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ladder on top of the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der is in motion because the truck is in 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ruck stops, the ladder stays in 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is stopped by the force of the car, but the ladder i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orce stops the lad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r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47920" y="259092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ar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How do each of these vehicles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cel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stops moving.  The car starts mo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will be the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hardest to accel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because it has the most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447920" y="238428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car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ccelerate] when it is hit by the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vy and moving truck ha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r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small, at rest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truck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top 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it hits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the ca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shing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truck, plus the forc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massive truck and the road slow down, the stop the tr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47920" y="2590920"/>
            <a:ext cx="7238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hits the car.  An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tion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s the tr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qual and 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 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that pushes the car forwa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we need to define the word 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FOR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2361960"/>
            <a:ext cx="6705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sh or a pull exerted on an object in order to change the motion of the o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Cj01052040000[1]"/>
          <p:cNvPicPr/>
          <p:nvPr/>
        </p:nvPicPr>
        <p:blipFill>
          <a:blip r:embed="rId1"/>
          <a:stretch/>
        </p:blipFill>
        <p:spPr>
          <a:xfrm>
            <a:off x="2057400" y="5562720"/>
            <a:ext cx="1836720" cy="73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052060000[1]"/>
          <p:cNvPicPr/>
          <p:nvPr/>
        </p:nvPicPr>
        <p:blipFill>
          <a:blip r:embed="rId2"/>
          <a:stretch/>
        </p:blipFill>
        <p:spPr>
          <a:xfrm>
            <a:off x="5715000" y="5486400"/>
            <a:ext cx="1847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New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79856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: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by using a spring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333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1597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may be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lanc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unbal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ll forces acting on an object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Un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ne or more forces acting on an object are stronger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tion is a force that opposes motion between two surfaces that are in conta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tic Friction – sliding or roll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Friction  -  when a force is applied, but the object does not 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ton’s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7985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irst Law – Inerti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ond Law – Acceleration, Force &amp;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ird Law – Action-Reaction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not moving] remains at rest unless acted on by a force [push or pul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mains in motion unless acted on by a force [push or pul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Mj01739680000[1]"/>
          <p:cNvPicPr/>
          <p:nvPr/>
        </p:nvPicPr>
        <p:blipFill>
          <a:blip r:embed="rId1"/>
          <a:stretch/>
        </p:blipFill>
        <p:spPr>
          <a:xfrm>
            <a:off x="5410080" y="2819520"/>
            <a:ext cx="25146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ertia &amp;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matter i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object has, the mor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bject h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objects are harder to start &amp;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9625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ns.arti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arg-newtrain-crop"/>
          <p:cNvPicPr/>
          <p:nvPr/>
        </p:nvPicPr>
        <p:blipFill>
          <a:blip r:embed="rId2"/>
          <a:stretch/>
        </p:blipFill>
        <p:spPr>
          <a:xfrm>
            <a:off x="3581280" y="4495680"/>
            <a:ext cx="2705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20:14:54Z</dcterms:created>
  <dc:creator>Mary Poarch</dc:creator>
  <dc:description/>
  <dc:language>en-US</dc:language>
  <cp:lastModifiedBy>Kimberly</cp:lastModifiedBy>
  <dcterms:modified xsi:type="dcterms:W3CDTF">2015-12-14T14:00:20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